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6838-41B1-4E63-81D1-359B8BBD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B22B-348F-4B1C-85DC-C985ECF6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511E-7121-46D3-AD67-EF3F0E99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504F-ABFD-4BA9-A2F5-753AB048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8B2F-1091-4B63-87BE-3AF7AC49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A803-E436-47E9-B017-A67C8987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73CA-21A7-4D76-8C3C-B44CECF8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16B4-1EDE-4B27-AC02-A841830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7420-639B-4D5A-B848-7F4BE765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09E6-35D9-41FC-8131-0E839CDF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C5FA-2568-4C5A-9D02-B5924CE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7D74-F22A-4648-AF71-03258E59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D4AC-8005-4572-BF5B-B16E0C1C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AF43-B485-4FE9-BD44-15FE5FAF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EBBB-B2D8-41F3-8E13-2F4FFB02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DD25-BE07-47E3-88BB-5DEA21E5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53E3-8B26-48AB-B428-6FC7F08C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81A1-6389-43D1-9260-97C42478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D14A-3E59-4476-8FCA-EB47A568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3E2A-09F5-4D79-A25E-00208C73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A3D5-9682-4731-B2B4-7EECA5C3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4BFC-C4AE-4B26-94DE-D257ABB4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246E-71F9-4B3B-9AF0-20B948D2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9DF2-BCA5-4141-A468-55A5CD9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BD74-0E1C-40CF-B1EC-331BEAF0875F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F220-32A9-4607-88E3-5315C33EAB45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1856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Mecanismos e Valores da Cobrança pelo Uso da Água na Bacia do Rio São Francisco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4ª Reunião CTCOB- CNR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maz Matta Mach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.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61720" y="6237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ropriá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 rot="10800000">
            <a:off x="3779640" y="97992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3068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Garajú - AL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962280" y="4320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12160" y="615780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18240" y="649116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876440" y="42469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20" y="476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SE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65088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7400" y="429264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550080" y="578736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50120" y="213372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655308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45720" y="6165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8253720" y="54540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aramond"/>
              </a:rPr>
              <a:t>Rede </a:t>
            </a:r>
            <a:r>
              <a:rPr b="1" lang="pt-BR" sz="4400" spc="-1" strike="noStrike" u="sng">
                <a:solidFill>
                  <a:srgbClr val="ffffff"/>
                </a:solidFill>
                <a:uFillTx/>
                <a:latin typeface="Garamond"/>
              </a:rPr>
              <a:t>EcoVaz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Com vistas à definição de um regime ou hidrograma de vazões ecológicas para o baixo curso do Rio São Francisco, estão sendo realizados estudos por uma rede de pesquisa formada por universidades, localizadas na Bacia (UFBA, UFMG, UFS, UFPE, UFLA), financiada pelo CT-Hidro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(Edital MCT/CNPq – CT-HIDRO 45/2006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A rede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EcoVazão</a:t>
            </a: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 tem como objetivo a articulação de iniciativas, no campo da produção do conhecimento, que avance no sentido da construção de um saber mais próximo das múltiplas e complexas determinações naturais e socia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Trebuchet MS"/>
              </a:rPr>
              <a:t>COMITÊ DA BACIA DO RIO SÃO FRANCISC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nstituído por Decreto Presidencial de 05 de junho de 200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4 Membros: 62 titulares e 62 suplen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osição: 32,79% Poder Público; 37,70% Usuários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4,59% Sociedade Civil; 4,92% Comunidade Tradicion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iretoria: Presidência – Sociedade Civil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ce Presidência – Poder Público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retaria Executiva - Poder Público/ 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to - Poder Público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édio - Sociedade Civil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ub-médio - Poder Público/ P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aixo - Sociedade Civil/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260280"/>
            <a:ext cx="87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AVALIAÇÃO DAS ALTERAÇÕES NAS COMUNIDADES DE PEIXES DE LAGOAS MARGINAIS DO BAIXO CURSO DO RIO SÃO FRANCISCO EM FUNÇÃO DE BARRAMENTO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198900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Defesa de mestrado em Ecologia Aplic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16640"/>
            <a:ext cx="5832360" cy="1072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rília Lourenço dos S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rientador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aulo dos Santos Pomp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-orientad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los Bernardo M. A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57560" y="88920"/>
            <a:ext cx="4998960" cy="6680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5840" y="764640"/>
            <a:ext cx="3673800" cy="496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O DAS VELHA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uente em volume e extensão (761 Km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rojeto Manuelzão para Revitalização do Rio das Velh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822240"/>
            <a:ext cx="4464000" cy="5846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335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ÉDIO SÃO FRANCISC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cho (600 km) entre Pirapora (MG) e Sobradinho (B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o em lagoas margi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53880"/>
            <a:ext cx="8929800" cy="6503760"/>
            <a:chOff x="0" y="353880"/>
            <a:chExt cx="8929800" cy="6503760"/>
          </a:xfrm>
        </p:grpSpPr>
        <p:grpSp>
          <p:nvGrpSpPr>
            <p:cNvPr id="155" name=""/>
            <p:cNvGrpSpPr/>
            <p:nvPr/>
          </p:nvGrpSpPr>
          <p:grpSpPr>
            <a:xfrm>
              <a:off x="2486160" y="2370240"/>
              <a:ext cx="6443280" cy="4487400"/>
              <a:chOff x="2486160" y="2370240"/>
              <a:chExt cx="6443280" cy="44874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0" t="7569" r="5869" b="0"/>
              <a:stretch/>
            </p:blipFill>
            <p:spPr>
              <a:xfrm>
                <a:off x="2486160" y="2370240"/>
                <a:ext cx="6411600" cy="44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90859" t="1499" r="0" b="83368"/>
              <a:stretch/>
            </p:blipFill>
            <p:spPr>
              <a:xfrm>
                <a:off x="8431920" y="2442600"/>
                <a:ext cx="49752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0" y="353880"/>
              <a:ext cx="8929800" cy="819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marL="205560" indent="-20556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  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BAIXO SÃO FRANCISCO</a:t>
              </a:r>
              <a:r>
                <a:rPr b="0" lang="en-US" sz="3100" spc="-1" strike="noStrike">
                  <a:solidFill>
                    <a:srgbClr val="ffffff"/>
                  </a:solidFill>
                  <a:latin typeface="Garamond"/>
                </a:rPr>
                <a:t>: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Trecho mais curto (274 km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11280" y="692280"/>
            <a:ext cx="8532720" cy="6024600"/>
            <a:chOff x="611280" y="692280"/>
            <a:chExt cx="8532720" cy="6024600"/>
          </a:xfrm>
        </p:grpSpPr>
        <p:sp>
          <p:nvSpPr>
            <p:cNvPr id="160" name=""/>
            <p:cNvSpPr/>
            <p:nvPr/>
          </p:nvSpPr>
          <p:spPr>
            <a:xfrm>
              <a:off x="3349800" y="692280"/>
              <a:ext cx="57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queza espécies migrado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rcRect l="2362" t="3549" r="43648" b="4170"/>
            <a:stretch/>
          </p:blipFill>
          <p:spPr>
            <a:xfrm>
              <a:off x="611280" y="1557360"/>
              <a:ext cx="453528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rcRect l="76779" t="0" r="0" b="73383"/>
            <a:stretch/>
          </p:blipFill>
          <p:spPr>
            <a:xfrm>
              <a:off x="5435640" y="1773360"/>
              <a:ext cx="165564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66360" y="5094360"/>
              <a:ext cx="359748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uscal-Wallis: p = 0,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RESULTADOS E DISCUSS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n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016000"/>
            <a:ext cx="7993080" cy="4149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6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se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Qcap  Qcons   CODBO 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ap = Qcap x PPUcap x Kc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ons = Qcons x PPUcons x Kc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DBO = CODBO x PPULanç x Klan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In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 total = Valorcap  +  Valorcons + ValorDBO x Kgestã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Valor total</a:t>
            </a:r>
            <a:r>
              <a:rPr b="1" lang="en-A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=  valorcap+ valorcons x kprioridade x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VALORES UNITÁRIOS DE COBRANÇA PPUS NA BACIA DO RIO SÃO FRANCIS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060640"/>
          <a:ext cx="8229600" cy="38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po de us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 (R$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taçã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sum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nçamento de carga orgânica DB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5,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D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553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VALORES DOS COEFICIENTES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MULTIPLICADORES DE COBRANÇ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cap 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cons ir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 (para irrigação, criação animal e aquicultur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(demais setores usu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lan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prioridad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basteciment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3º - Deliberação CBHSF nº1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492/2004 (coordenadas específicas e distint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390/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1º, do art. 7º - Resolução CNRH nº 48 (diferenciação dos valo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lução nº 1 /2005 Outorga Vale (barragem, captação e lançamento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922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de 26,40m3/s ( Outorga 11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prioridade Deliberação CBHSF nº18/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Leste 10,29m³/s K prioridade= 0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Norte 16,11m³/s K prioridade é igual a 1,0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média plurianual outorga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SIDERAÇÕES FINAI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ponibilidade hídrica – NEST-109,9m³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s 44,45,46.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Vazão firme em cada eix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ferenciação dos eixos: K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Garamond"/>
              </a:rPr>
              <a:t>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 2, artigo I, Deliberação 45/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SO/Sergi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a que comitê de baci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rebuchet MS"/>
              </a:rPr>
              <a:t>DADOS DEMOGRÁFIC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da bacia: 634.781 km²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8% do território nac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6 Estados: Minas Gerais, Bahia, Pernambuco, Alagoas, Sergipe, Goiá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trito Fed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503 municíp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opulação estimada: 12.796.082 h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USO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0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eração de energia elétrica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dústr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ane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esca e aqu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vegaçã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urismo e laz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1. Quantidade de águ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) Geração de energia x outros usos (vazões críticas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)Agricultura irrigada x outros usos, sub-bacias do Paracatu (Entre Ribeiros), Jequitaí-Pacuí (Riachinho), Salitre e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6912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2. Qualidade da água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aop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das Vel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Verde-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rechos da Cal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DECISÕES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oridade de outorga: uso interno à b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locação externa: abastecimento humano comprovada a escassez hídr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alocável: 36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mínima diária na foz: 130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stituição do Processo Administrativo 01/2004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tureza jurídica da Agên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ecanismos e valores de cobrança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AGENDA EM DISCUSSÃO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cação da Entidade Delegatária com funções de Agência da Ba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to de Gest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to da Águas (vazões de entre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talizaç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o administrativo da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ção da vazão ambi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4:58Z</dcterms:created>
  <dc:creator>Medicina Preventiva e Social</dc:creator>
  <dc:description/>
  <dc:language>en-US</dc:language>
  <cp:lastModifiedBy>ANA</cp:lastModifiedBy>
  <dcterms:modified xsi:type="dcterms:W3CDTF">2010-02-24T12:27:08Z</dcterms:modified>
  <cp:revision>8</cp:revision>
  <dc:subject/>
  <dc:title>Mecanismos  Valores da Cobrança pelo Uso da Água na Bacia do Rio São Francisco   </dc:title>
</cp:coreProperties>
</file>